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3DD-85DC-47FA-A870-8070C3FB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74F-A4A3-4EEE-93FE-69455F2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2D2-B28D-47E8-98B9-61BDB430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48-097B-4700-8EE7-9E6298D7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1C9-75E8-4A4E-946D-8D7F2E39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ED9-9B19-4A21-81A1-67511C5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0F7-F630-4AC2-A614-D21844ED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43B-9737-48C3-81B5-036E161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1BF-1DED-43A1-BEC1-D603CF56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AA-CFF9-4DEA-907B-8C8F930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2DA-E3E9-4333-9107-7D83D5E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476-6738-4149-AE88-3AFAE0A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CA1-B37D-4145-89BA-D19B3765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vel map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ortney Sandahl &amp; Breahanna Schoo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ch Bash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o wrestling,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wrestling with Japanese people the men would fight and invite people to watch them and cheer them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uld meet at the Osaka Municipal Gymnasium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sumo wrestlers in Japan were there to fight, the culture it fits in is athletic. Why it fits in the athletic culture is because it’s a s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h Tay Mark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rket sells fruit, vegetables, nuts, fish, meat and cigarettes, beer and clothes of every ty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in Vietnam, its culture is probably shopping. Why? Because you buy stuff and that’s what shopping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pretty well good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14:54Z</dcterms:created>
  <dc:creator>Jefferson Elementary School</dc:creator>
  <dc:description/>
  <dc:language>en-US</dc:language>
  <cp:lastModifiedBy>Jefferson Elementary School</cp:lastModifiedBy>
  <dcterms:modified xsi:type="dcterms:W3CDTF">2012-03-01T17:30:21Z</dcterms:modified>
  <cp:revision>2</cp:revision>
  <dc:subject/>
  <dc:title> Travel map </dc:title>
</cp:coreProperties>
</file>